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8DFE-BCC1-43FC-99E4-68C764A2D1BD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3057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61440" y="1866960"/>
            <a:ext cx="84582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2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STEP Physical File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tains instances of entities that correspond to the EXPRESS schema governing the exchange structure in the header section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x simple data types are used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instance name (i.e. the # number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to 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9680" y="4090680"/>
            <a:ext cx="8858160" cy="20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rm of the product data in the exchange structure is specified by using a mapping from the EXPRESS language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31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34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048120" y="2903400"/>
            <a:ext cx="3124080" cy="1105200"/>
          </a:xfrm>
          <a:custGeom>
            <a:avLst/>
            <a:gdLst>
              <a:gd name="textAreaLeft" fmla="*/ 488160 w 3124080"/>
              <a:gd name="textAreaRight" fmla="*/ 2733840 w 3124080"/>
              <a:gd name="textAreaTop" fmla="*/ 276120 h 1105200"/>
              <a:gd name="textAreaBottom" fmla="*/ 829080 h 1105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2520" y="2951280"/>
            <a:ext cx="12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LPM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32920" y="2951280"/>
            <a:ext cx="158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Pop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CI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chang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EXPRESS constru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Part 21 defines mappings into the exchange structure for the following EXPRESS construct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MPLE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LECT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PERTYPE-SUBTY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Constru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llowing EXPRESS constructs do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map into the exchange structure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ERE 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VERSE Attribu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TA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ma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 &amp; Entity Type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ach entity instance shall be represented at most once in the data section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inct entity instances shall have distinct entity instance names (i.e. the #number)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entity instances need not be ordered in the exchange structu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instance may be referenced before its name occurs as an identifier in the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data type is mapped by placing the #number in the place of the attribute val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#123 = ENTITY_NAME (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values of attributes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: Examp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dget_material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materi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material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TRING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MATERIAL (‘steel’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ptional val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re an Optional attribute has not been given a value, it shall be encoded as a dollar sign "$"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oole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BOOLEAN shall be treated as a pre-defined enumerated data type with a value encoded as "T" (for TRUE) and "F" (for FALSE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gic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LOGICAL shall be treated as a pre-defined enumerated data type with a value encoded as "T" (for TRUE), "F" (for FALSE) and "U" (for UNKNOW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imple data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OPTIONAL RE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BOOLEA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OGIC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$, .T., .F.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85960" y="2109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303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51" idx="2"/>
            <a:endCxn id="154" idx="2"/>
          </p:cNvCxnSpPr>
          <p:nvPr/>
        </p:nvCxnSpPr>
        <p:spPr>
          <a:xfrm flipH="1" rot="16200000">
            <a:off x="6315120" y="2079360"/>
            <a:ext cx="317880" cy="12578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6537600" y="2496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37480" y="1965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1" idx="1"/>
          </p:cNvCxnSpPr>
          <p:nvPr/>
        </p:nvCxnSpPr>
        <p:spPr>
          <a:xfrm flipH="1" flipV="1" rot="10800000">
            <a:off x="5355000" y="2322000"/>
            <a:ext cx="3351960" cy="1098000"/>
          </a:xfrm>
          <a:prstGeom prst="bentConnector3">
            <a:avLst>
              <a:gd name="adj1" fmla="val -6390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4095720" y="236232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1" idx="3"/>
            <a:endCxn id="160" idx="2"/>
          </p:cNvCxnSpPr>
          <p:nvPr/>
        </p:nvCxnSpPr>
        <p:spPr>
          <a:xfrm>
            <a:off x="6332040" y="2322000"/>
            <a:ext cx="135036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prstDash val="dash"/>
            <a:miter/>
          </a:ln>
        </p:spPr>
      </p:cxnSp>
      <p:sp>
        <p:nvSpPr>
          <p:cNvPr id="161" name=""/>
          <p:cNvSpPr/>
          <p:nvPr/>
        </p:nvSpPr>
        <p:spPr>
          <a:xfrm>
            <a:off x="5950080" y="236232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277040" y="26416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8669160" y="2641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16840" y="2790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97760" y="3343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696080" y="2141280"/>
            <a:ext cx="1123920" cy="376200"/>
            <a:chOff x="7696080" y="2141280"/>
            <a:chExt cx="1123920" cy="376200"/>
          </a:xfrm>
        </p:grpSpPr>
        <p:sp>
          <p:nvSpPr>
            <p:cNvPr id="160" name=""/>
            <p:cNvSpPr/>
            <p:nvPr/>
          </p:nvSpPr>
          <p:spPr>
            <a:xfrm>
              <a:off x="7696080" y="2257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75360" y="214164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692920" y="214128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7277040" y="32050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8669160" y="32047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EXPRESS elements of LIST, BAG, SET or an ARRAY shall be mapped to the exchange structure as a list data typ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n entire list is optional and does not exist, the list shall be encoded by a dollar sign “$”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list is empty, the list shall be encoded as a lef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 followed by a righ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Aggreg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1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IS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0:6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2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E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?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3: OPTIONAL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RRA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3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data section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4 = WIDGET((), (1,2,4),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98280" y="39988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61320" y="492120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3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74" idx="2"/>
            <a:endCxn id="177" idx="2"/>
          </p:cNvCxnSpPr>
          <p:nvPr/>
        </p:nvCxnSpPr>
        <p:spPr>
          <a:xfrm flipH="1" rot="16200000">
            <a:off x="5951520" y="3544560"/>
            <a:ext cx="335520" cy="212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5399280" y="442116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2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22040" y="38559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1 L[0: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4" idx="1"/>
          </p:cNvCxnSpPr>
          <p:nvPr/>
        </p:nvCxnSpPr>
        <p:spPr>
          <a:xfrm flipH="1" flipV="1" rot="10800000">
            <a:off x="4567680" y="4210560"/>
            <a:ext cx="3351960" cy="1097640"/>
          </a:xfrm>
          <a:prstGeom prst="bentConnector3">
            <a:avLst>
              <a:gd name="adj1" fmla="val -6390"/>
            </a:avLst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2"/>
          </p:cNvCxnSpPr>
          <p:nvPr/>
        </p:nvCxnSpPr>
        <p:spPr>
          <a:xfrm>
            <a:off x="5544720" y="4211280"/>
            <a:ext cx="163260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prstDash val="dash"/>
            <a:miter/>
          </a:ln>
        </p:spPr>
      </p:cxnSp>
      <p:sp>
        <p:nvSpPr>
          <p:cNvPr id="183" name=""/>
          <p:cNvSpPr/>
          <p:nvPr/>
        </p:nvSpPr>
        <p:spPr>
          <a:xfrm>
            <a:off x="5549760" y="426888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88280" y="456552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8747280" y="456516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94600" y="46972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209000" y="5249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191360" y="4029120"/>
            <a:ext cx="1722240" cy="377640"/>
            <a:chOff x="7191360" y="4029120"/>
            <a:chExt cx="1722240" cy="377640"/>
          </a:xfrm>
        </p:grpSpPr>
        <p:sp>
          <p:nvSpPr>
            <p:cNvPr id="182" name=""/>
            <p:cNvSpPr/>
            <p:nvPr/>
          </p:nvSpPr>
          <p:spPr>
            <a:xfrm>
              <a:off x="7191360" y="4146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02320" y="4029120"/>
              <a:ext cx="15112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8751960" y="403056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389720" y="511164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745480" y="511128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91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94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97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0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03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actual value in an instance of the ENUMERATION shall be one of the enumerated values in the EXPRESS schema, in capital letters and delimited by full stop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Enumer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YPE primary_colour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NUMERATIO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OF (red, green, blue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_colour : primary_colour;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2 = WIDGET(.RED.);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64960" y="345924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62160" y="3292560"/>
            <a:ext cx="105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_col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772320" y="3424320"/>
            <a:ext cx="2073960" cy="374400"/>
            <a:chOff x="6772320" y="3424320"/>
            <a:chExt cx="2073960" cy="374400"/>
          </a:xfrm>
        </p:grpSpPr>
        <p:sp>
          <p:nvSpPr>
            <p:cNvPr id="199" name=""/>
            <p:cNvSpPr/>
            <p:nvPr/>
          </p:nvSpPr>
          <p:spPr>
            <a:xfrm>
              <a:off x="6772320" y="357660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57720" y="3427560"/>
              <a:ext cx="18885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imary_col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8730360" y="34243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2" name=""/>
          <p:cNvCxnSpPr>
            <a:stCxn id="196" idx="3"/>
            <a:endCxn id="199" idx="2"/>
          </p:cNvCxnSpPr>
          <p:nvPr/>
        </p:nvCxnSpPr>
        <p:spPr>
          <a:xfrm flipV="1">
            <a:off x="5711760" y="3652200"/>
            <a:ext cx="1046880" cy="19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ELECT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fines a list of data types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lled the 'select-list'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ose values are valid instances of select data typ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include all of the subtype entities of super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instance of a select data type shall be a value of a least one of the data types in the select-list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data type in the select list is itself a select data type, then the encoding rules are applied recursivel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instances of entity data types, simple data types and enumeration data types can actually be encod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43800" y="13921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240600" y="2359080"/>
            <a:ext cx="690480" cy="592560"/>
            <a:chOff x="6240600" y="2359080"/>
            <a:chExt cx="690480" cy="592560"/>
          </a:xfrm>
        </p:grpSpPr>
        <p:sp>
          <p:nvSpPr>
            <p:cNvPr id="208" name=""/>
            <p:cNvSpPr/>
            <p:nvPr/>
          </p:nvSpPr>
          <p:spPr>
            <a:xfrm>
              <a:off x="6240600" y="25812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91160" y="2359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6350040" y="25632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1" name=""/>
          <p:cNvCxnSpPr>
            <a:stCxn id="212" idx="2"/>
            <a:endCxn id="209" idx="0"/>
          </p:cNvCxnSpPr>
          <p:nvPr/>
        </p:nvCxnSpPr>
        <p:spPr>
          <a:xfrm>
            <a:off x="6584760" y="1832040"/>
            <a:ext cx="1080" cy="5133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7205760" y="3121200"/>
            <a:ext cx="1792440" cy="398880"/>
            <a:chOff x="7205760" y="3121200"/>
            <a:chExt cx="1792440" cy="398880"/>
          </a:xfrm>
        </p:grpSpPr>
        <p:sp>
          <p:nvSpPr>
            <p:cNvPr id="214" name=""/>
            <p:cNvSpPr/>
            <p:nvPr/>
          </p:nvSpPr>
          <p:spPr>
            <a:xfrm>
              <a:off x="7428960" y="312120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05760" y="3222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7232760" y="3711600"/>
            <a:ext cx="1734840" cy="398880"/>
            <a:chOff x="7232760" y="3711600"/>
            <a:chExt cx="1734840" cy="398880"/>
          </a:xfrm>
        </p:grpSpPr>
        <p:sp>
          <p:nvSpPr>
            <p:cNvPr id="217" name=""/>
            <p:cNvSpPr/>
            <p:nvPr/>
          </p:nvSpPr>
          <p:spPr>
            <a:xfrm>
              <a:off x="7456320" y="37116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232760" y="38131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9" name=""/>
          <p:cNvCxnSpPr>
            <a:stCxn id="208" idx="2"/>
            <a:endCxn id="218" idx="2"/>
          </p:cNvCxnSpPr>
          <p:nvPr/>
        </p:nvCxnSpPr>
        <p:spPr>
          <a:xfrm flipH="1" rot="16200000">
            <a:off x="6443640" y="3132720"/>
            <a:ext cx="916560" cy="6325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20" name=""/>
          <p:cNvCxnSpPr>
            <a:stCxn id="208" idx="2"/>
            <a:endCxn id="215" idx="2"/>
          </p:cNvCxnSpPr>
          <p:nvPr/>
        </p:nvCxnSpPr>
        <p:spPr>
          <a:xfrm flipH="1" rot="16200000">
            <a:off x="6726240" y="2850840"/>
            <a:ext cx="326160" cy="6055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6604560" y="1978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1080" y="14130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14760" y="1517760"/>
            <a:ext cx="19188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950760" y="139500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06" idx="1"/>
            <a:endCxn id="223" idx="6"/>
          </p:cNvCxnSpPr>
          <p:nvPr/>
        </p:nvCxnSpPr>
        <p:spPr>
          <a:xfrm flipH="1">
            <a:off x="2920320" y="1604880"/>
            <a:ext cx="189612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2852280" y="1224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94160" y="172260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21120" y="284940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79560" y="257184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92520" y="3511440"/>
            <a:ext cx="19987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ss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08520" y="37558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64240" y="438480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08520" y="46674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27" idx="2"/>
            <a:endCxn id="228" idx="6"/>
          </p:cNvCxnSpPr>
          <p:nvPr/>
        </p:nvCxnSpPr>
        <p:spPr>
          <a:xfrm rot="5400000">
            <a:off x="4639680" y="2236680"/>
            <a:ext cx="1104120" cy="3103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35" name=""/>
          <p:cNvCxnSpPr>
            <a:stCxn id="227" idx="2"/>
            <a:endCxn id="231" idx="6"/>
          </p:cNvCxnSpPr>
          <p:nvPr/>
        </p:nvCxnSpPr>
        <p:spPr>
          <a:xfrm rot="5400000">
            <a:off x="4179960" y="2683440"/>
            <a:ext cx="2010600" cy="322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36" name=""/>
          <p:cNvCxnSpPr>
            <a:stCxn id="227" idx="2"/>
            <a:endCxn id="233" idx="6"/>
          </p:cNvCxnSpPr>
          <p:nvPr/>
        </p:nvCxnSpPr>
        <p:spPr>
          <a:xfrm rot="5400000">
            <a:off x="3724200" y="3139200"/>
            <a:ext cx="2921760" cy="322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5009760" y="24098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20640" y="3432240"/>
            <a:ext cx="1123560" cy="576360"/>
            <a:chOff x="620640" y="3432240"/>
            <a:chExt cx="1123560" cy="576360"/>
          </a:xfrm>
        </p:grpSpPr>
        <p:sp>
          <p:nvSpPr>
            <p:cNvPr id="239" name=""/>
            <p:cNvSpPr/>
            <p:nvPr/>
          </p:nvSpPr>
          <p:spPr>
            <a:xfrm>
              <a:off x="825480" y="36180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0640" y="374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7960" y="343224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99840" y="36180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3" name=""/>
          <p:cNvCxnSpPr>
            <a:stCxn id="244" idx="2"/>
            <a:endCxn id="241" idx="0"/>
          </p:cNvCxnSpPr>
          <p:nvPr/>
        </p:nvCxnSpPr>
        <p:spPr>
          <a:xfrm>
            <a:off x="1209240" y="3001680"/>
            <a:ext cx="540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45" name=""/>
          <p:cNvGrpSpPr/>
          <p:nvPr/>
        </p:nvGrpSpPr>
        <p:grpSpPr>
          <a:xfrm>
            <a:off x="6042600" y="4551480"/>
            <a:ext cx="1664640" cy="398880"/>
            <a:chOff x="6042600" y="4551480"/>
            <a:chExt cx="1664640" cy="398880"/>
          </a:xfrm>
        </p:grpSpPr>
        <p:sp>
          <p:nvSpPr>
            <p:cNvPr id="246" name=""/>
            <p:cNvSpPr/>
            <p:nvPr/>
          </p:nvSpPr>
          <p:spPr>
            <a:xfrm>
              <a:off x="7520040" y="46688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42600" y="455148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133320" y="5157720"/>
            <a:ext cx="1573560" cy="398880"/>
            <a:chOff x="6133320" y="5157720"/>
            <a:chExt cx="1573560" cy="398880"/>
          </a:xfrm>
        </p:grpSpPr>
        <p:sp>
          <p:nvSpPr>
            <p:cNvPr id="249" name=""/>
            <p:cNvSpPr/>
            <p:nvPr/>
          </p:nvSpPr>
          <p:spPr>
            <a:xfrm>
              <a:off x="6133320" y="515772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19680" y="5297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6250680" y="5719680"/>
            <a:ext cx="1456200" cy="398880"/>
            <a:chOff x="6250680" y="5719680"/>
            <a:chExt cx="1456200" cy="398880"/>
          </a:xfrm>
        </p:grpSpPr>
        <p:sp>
          <p:nvSpPr>
            <p:cNvPr id="252" name=""/>
            <p:cNvSpPr/>
            <p:nvPr/>
          </p:nvSpPr>
          <p:spPr>
            <a:xfrm>
              <a:off x="6250680" y="571968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19680" y="5830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4" name=""/>
          <p:cNvCxnSpPr>
            <a:stCxn id="217" idx="2"/>
            <a:endCxn id="246" idx="6"/>
          </p:cNvCxnSpPr>
          <p:nvPr/>
        </p:nvCxnSpPr>
        <p:spPr>
          <a:xfrm rot="5400000">
            <a:off x="7667640" y="4218840"/>
            <a:ext cx="612000" cy="4766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55" name=""/>
          <p:cNvCxnSpPr>
            <a:stCxn id="217" idx="2"/>
            <a:endCxn id="250" idx="6"/>
          </p:cNvCxnSpPr>
          <p:nvPr/>
        </p:nvCxnSpPr>
        <p:spPr>
          <a:xfrm rot="5400000">
            <a:off x="7353360" y="4533120"/>
            <a:ext cx="1240560" cy="4766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56" name=""/>
          <p:cNvCxnSpPr>
            <a:stCxn id="217" idx="2"/>
            <a:endCxn id="253" idx="6"/>
          </p:cNvCxnSpPr>
          <p:nvPr/>
        </p:nvCxnSpPr>
        <p:spPr>
          <a:xfrm rot="5400000">
            <a:off x="7086600" y="4799880"/>
            <a:ext cx="1774080" cy="4766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257" name=""/>
          <p:cNvSpPr/>
          <p:nvPr/>
        </p:nvSpPr>
        <p:spPr>
          <a:xfrm>
            <a:off x="7830720" y="4324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98440" y="4016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02400" y="2592360"/>
            <a:ext cx="2002680" cy="368280"/>
            <a:chOff x="302400" y="2592360"/>
            <a:chExt cx="2002680" cy="368280"/>
          </a:xfrm>
        </p:grpSpPr>
        <p:sp>
          <p:nvSpPr>
            <p:cNvPr id="244" name=""/>
            <p:cNvSpPr/>
            <p:nvPr/>
          </p:nvSpPr>
          <p:spPr>
            <a:xfrm>
              <a:off x="302400" y="259236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52440" y="2724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2422440" y="1698480"/>
            <a:ext cx="217440" cy="1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61" idx="2"/>
            <a:endCxn id="260" idx="6"/>
          </p:cNvCxnSpPr>
          <p:nvPr/>
        </p:nvCxnSpPr>
        <p:spPr>
          <a:xfrm rot="5400000">
            <a:off x="1924920" y="2193840"/>
            <a:ext cx="1000800" cy="2134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3" name=""/>
          <p:cNvCxnSpPr>
            <a:stCxn id="261" idx="2"/>
            <a:endCxn id="264" idx="6"/>
          </p:cNvCxnSpPr>
          <p:nvPr/>
        </p:nvCxnSpPr>
        <p:spPr>
          <a:xfrm rot="5400000">
            <a:off x="986760" y="3146400"/>
            <a:ext cx="2891520" cy="1994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5" name=""/>
          <p:cNvCxnSpPr>
            <a:stCxn id="261" idx="2"/>
            <a:endCxn id="266" idx="6"/>
          </p:cNvCxnSpPr>
          <p:nvPr/>
        </p:nvCxnSpPr>
        <p:spPr>
          <a:xfrm rot="5400000">
            <a:off x="344160" y="3755520"/>
            <a:ext cx="4143600" cy="23256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7" name=""/>
          <p:cNvCxnSpPr>
            <a:stCxn id="258" idx="4"/>
            <a:endCxn id="268" idx="0"/>
          </p:cNvCxnSpPr>
          <p:nvPr/>
        </p:nvCxnSpPr>
        <p:spPr>
          <a:xfrm>
            <a:off x="1274400" y="4182840"/>
            <a:ext cx="11880" cy="286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69" name=""/>
          <p:cNvGrpSpPr/>
          <p:nvPr/>
        </p:nvGrpSpPr>
        <p:grpSpPr>
          <a:xfrm>
            <a:off x="415800" y="4483080"/>
            <a:ext cx="1903680" cy="368280"/>
            <a:chOff x="415800" y="4483080"/>
            <a:chExt cx="1903680" cy="368280"/>
          </a:xfrm>
        </p:grpSpPr>
        <p:sp>
          <p:nvSpPr>
            <p:cNvPr id="268" name=""/>
            <p:cNvSpPr/>
            <p:nvPr/>
          </p:nvSpPr>
          <p:spPr>
            <a:xfrm>
              <a:off x="415800" y="448308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66840" y="46148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82760" y="5749920"/>
            <a:ext cx="1803240" cy="368280"/>
            <a:chOff x="482760" y="5749920"/>
            <a:chExt cx="1803240" cy="368280"/>
          </a:xfrm>
        </p:grpSpPr>
        <p:sp>
          <p:nvSpPr>
            <p:cNvPr id="271" name=""/>
            <p:cNvSpPr/>
            <p:nvPr/>
          </p:nvSpPr>
          <p:spPr>
            <a:xfrm>
              <a:off x="482760" y="5749920"/>
              <a:ext cx="1625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ime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33720" y="5867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2" name=""/>
          <p:cNvCxnSpPr>
            <a:stCxn id="271" idx="1"/>
            <a:endCxn id="240" idx="2"/>
          </p:cNvCxnSpPr>
          <p:nvPr/>
        </p:nvCxnSpPr>
        <p:spPr>
          <a:xfrm flipH="1" rot="10800000">
            <a:off x="449640" y="3817080"/>
            <a:ext cx="156600" cy="2131200"/>
          </a:xfrm>
          <a:prstGeom prst="bentConnector3">
            <a:avLst>
              <a:gd name="adj1" fmla="val -137557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212" name=""/>
          <p:cNvSpPr/>
          <p:nvPr/>
        </p:nvSpPr>
        <p:spPr>
          <a:xfrm>
            <a:off x="6532560" y="17146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7160" y="1100160"/>
            <a:ext cx="868032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measure_valu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measure_value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length_measure, mass_measur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unit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derived_unit, 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 = LENGTH_MEASURE_WITH_UNIT (LENGTH_MEASURE(498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     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Supertype /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/ subtype entitie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opulation results in ‘complex entity instances’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wo ‘Mapping Rules’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rnal map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ternal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lection depends on which (STEP Part 21) Conformance Class selected (and stated in HEADER sectio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1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se Internal mapping for single inheritance graphs and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xternal mapping for multiple inheritance graph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2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se External mapping for all ‘complex entity instances’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&amp; External 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the name of the lowest level subtype shown in physical f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in order of inher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#100 = CC (aa, cc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entities in the inheritance graph named in physical file in alphabetical order of the entity n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with their parent 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#100 = (AA (aa) BB(bb) CC(cc)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upertype-sub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5840" y="1006200"/>
            <a:ext cx="8572320" cy="52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named_uni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PERTYPE OF (ONE OF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mass_unit, time_unit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 (ONEOF (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conversion_based_unit)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ame : si_unit_name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RIV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LF\named_unit.dimensions : dimensional_exponents := dimensions_for_si_unit (SELF.name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42040" y="3637080"/>
            <a:ext cx="3557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063520" y="2492280"/>
            <a:ext cx="1128600" cy="111132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99160" y="2192400"/>
            <a:ext cx="2028600" cy="14986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287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290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293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1" name=""/>
          <p:cNvCxnSpPr>
            <a:stCxn id="302" idx="3"/>
            <a:endCxn id="300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3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31600" y="2550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91120" y="27115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567760" y="2384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6438960" y="2516040"/>
            <a:ext cx="1756800" cy="374400"/>
            <a:chOff x="6438960" y="2516040"/>
            <a:chExt cx="1756800" cy="374400"/>
          </a:xfrm>
        </p:grpSpPr>
        <p:sp>
          <p:nvSpPr>
            <p:cNvPr id="309" name=""/>
            <p:cNvSpPr/>
            <p:nvPr/>
          </p:nvSpPr>
          <p:spPr>
            <a:xfrm>
              <a:off x="6438960" y="266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95920" y="2519280"/>
              <a:ext cx="15998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8097480" y="25160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453360" y="3018960"/>
            <a:ext cx="1339200" cy="374760"/>
            <a:chOff x="6453360" y="3018960"/>
            <a:chExt cx="1339200" cy="374760"/>
          </a:xfrm>
        </p:grpSpPr>
        <p:sp>
          <p:nvSpPr>
            <p:cNvPr id="313" name=""/>
            <p:cNvSpPr/>
            <p:nvPr/>
          </p:nvSpPr>
          <p:spPr>
            <a:xfrm>
              <a:off x="6453360" y="3157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10320" y="3022560"/>
              <a:ext cx="11822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7694640" y="301896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16" name=""/>
          <p:cNvCxnSpPr>
            <a:stCxn id="305" idx="3"/>
            <a:endCxn id="309" idx="2"/>
          </p:cNvCxnSpPr>
          <p:nvPr/>
        </p:nvCxnSpPr>
        <p:spPr>
          <a:xfrm flipV="1">
            <a:off x="5378400" y="2743920"/>
            <a:ext cx="1046880" cy="19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17" name=""/>
          <p:cNvCxnSpPr>
            <a:stCxn id="305" idx="2"/>
            <a:endCxn id="313" idx="2"/>
          </p:cNvCxnSpPr>
          <p:nvPr/>
        </p:nvCxnSpPr>
        <p:spPr>
          <a:xfrm flipH="1" rot="16200000">
            <a:off x="5543280" y="2337840"/>
            <a:ext cx="243720" cy="15487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18" name=""/>
          <p:cNvSpPr/>
          <p:nvPr/>
        </p:nvSpPr>
        <p:spPr>
          <a:xfrm>
            <a:off x="5567760" y="28749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02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2" name=""/>
          <p:cNvCxnSpPr>
            <a:stCxn id="320" idx="2"/>
            <a:endCxn id="291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23" name=""/>
          <p:cNvCxnSpPr>
            <a:stCxn id="320" idx="2"/>
            <a:endCxn id="294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24" name=""/>
          <p:cNvCxnSpPr>
            <a:stCxn id="321" idx="2"/>
            <a:endCxn id="296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25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0" idx="2"/>
            <a:endCxn id="287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30" name=""/>
          <p:cNvCxnSpPr>
            <a:stCxn id="321" idx="2"/>
            <a:endCxn id="306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235080" y="4483080"/>
            <a:ext cx="86389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#102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2 = DIMENSIONAL_EXPONENTS (1.0, 0.0, 0.0, 0.0, 0.0, 0.0, 0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86280" y="2433600"/>
            <a:ext cx="160488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336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339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342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51" idx="3"/>
            <a:endCxn id="349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2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431600" y="2550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91120" y="27115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67760" y="2384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6438960" y="2516040"/>
            <a:ext cx="1756800" cy="374400"/>
            <a:chOff x="6438960" y="2516040"/>
            <a:chExt cx="1756800" cy="374400"/>
          </a:xfrm>
        </p:grpSpPr>
        <p:sp>
          <p:nvSpPr>
            <p:cNvPr id="358" name=""/>
            <p:cNvSpPr/>
            <p:nvPr/>
          </p:nvSpPr>
          <p:spPr>
            <a:xfrm>
              <a:off x="6438960" y="266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595920" y="2519280"/>
              <a:ext cx="15998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8097480" y="25160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453360" y="3018960"/>
            <a:ext cx="1339200" cy="374760"/>
            <a:chOff x="6453360" y="3018960"/>
            <a:chExt cx="1339200" cy="374760"/>
          </a:xfrm>
        </p:grpSpPr>
        <p:sp>
          <p:nvSpPr>
            <p:cNvPr id="362" name=""/>
            <p:cNvSpPr/>
            <p:nvPr/>
          </p:nvSpPr>
          <p:spPr>
            <a:xfrm>
              <a:off x="6453360" y="3157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610320" y="3022560"/>
              <a:ext cx="11822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7694640" y="301896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5" name=""/>
          <p:cNvCxnSpPr>
            <a:stCxn id="354" idx="3"/>
            <a:endCxn id="358" idx="2"/>
          </p:cNvCxnSpPr>
          <p:nvPr/>
        </p:nvCxnSpPr>
        <p:spPr>
          <a:xfrm flipV="1">
            <a:off x="5378400" y="2743920"/>
            <a:ext cx="1046880" cy="19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66" name=""/>
          <p:cNvCxnSpPr>
            <a:stCxn id="354" idx="2"/>
            <a:endCxn id="362" idx="2"/>
          </p:cNvCxnSpPr>
          <p:nvPr/>
        </p:nvCxnSpPr>
        <p:spPr>
          <a:xfrm flipH="1" rot="16200000">
            <a:off x="5543280" y="2337840"/>
            <a:ext cx="243720" cy="15487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67" name=""/>
          <p:cNvSpPr/>
          <p:nvPr/>
        </p:nvSpPr>
        <p:spPr>
          <a:xfrm>
            <a:off x="5567760" y="28749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51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1" name=""/>
          <p:cNvCxnSpPr>
            <a:stCxn id="369" idx="2"/>
            <a:endCxn id="340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72" name=""/>
          <p:cNvCxnSpPr>
            <a:stCxn id="369" idx="2"/>
            <a:endCxn id="343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73" name=""/>
          <p:cNvCxnSpPr>
            <a:stCxn id="370" idx="2"/>
            <a:endCxn id="345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74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69" idx="2"/>
            <a:endCxn id="336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79" name=""/>
          <p:cNvCxnSpPr>
            <a:stCxn id="370" idx="2"/>
            <a:endCxn id="355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sp>
        <p:nvSpPr>
          <p:cNvPr id="380" name=""/>
          <p:cNvSpPr/>
          <p:nvPr/>
        </p:nvSpPr>
        <p:spPr>
          <a:xfrm flipV="1">
            <a:off x="396864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82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7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6480" y="2981160"/>
            <a:ext cx="8518680" cy="32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Header &amp; Data Sec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from EXPRES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defined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spcAft>
                <a:spcPts val="1100"/>
              </a:spcAft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attributes redefined in a subtype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 subtype entity redefines an attribute of its supertype using the DERIVE clause, that attribute in the supertype shall be encoded with an asterisk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89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394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397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00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03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06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10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3330360"/>
            <a:ext cx="853452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 file exchange, CIS/2 specifies tha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hysical file format shall be in accordance with ISO 10303-21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vember 1994 International Standard issue together with the 1996 'Technical Corrigendum'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mplementation Methods: ‘Clear text encoding of the exchange structure’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quential file using a clear text encoding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cribed by an unambiguous, context-free grammar to facilitate parsing by softwa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grammar is expressed in Wirth Syntax Not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sts of two section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eader s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viding data relating to the exchange structure itself, a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ec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viding the data to be transferred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volution of STEP Part 2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768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needed an instance exchange language that wa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a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ependent of a storage or programming paradigm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b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changeable in ASCII between different computers using different operating system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fficiently comprehensive to include instances of every type of product data defined in a STEP schema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d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uditable against the schema it instantiat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209000" y="69840"/>
          <a:ext cx="182880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9000" y="69840"/>
                    <a:ext cx="182880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SO-10303-21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an exchange structur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EADER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header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ATA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data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 used to close both section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-ISO-10303-21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close an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chem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7680" y="106344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header_section_schema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description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: LIST [1:?] OF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mplementation_level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nam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ime_stamp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ganization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eprocessor_vers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iginating_system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izat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24800" y="3754440"/>
            <a:ext cx="446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schem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_identifier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LIST [1:1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TRING (102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Populated Header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HEADER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DESCRIPTION (('Test case 1'),'1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NAME ('testcase1.stp', '1999-05-19T12:16:30', ('A.J.Crowley'), ('Steel Construction Institute'), '1.5.1 (compiled 17:44 11/24/1998)', 'NIST EXPRESSO', 'ajc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SCHEMA (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'STRUCTURAL_FRAME_SCHEMA'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cp:lastPrinted>1999-02-12T09:16:18Z</cp:lastPrinted>
  <dcterms:modified xsi:type="dcterms:W3CDTF">2000-08-31T10:51:00Z</dcterms:modified>
  <cp:revision>93</cp:revision>
  <dc:subject/>
  <dc:title>STEP Part 21</dc:title>
</cp:coreProperties>
</file>